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6EB-5781-4796-8885-5D78262B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C53-D9D0-482D-BC50-B111CF2F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1F0-3373-4ECE-992E-D75FDC4E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20D-D910-4827-B207-37D6B8E0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D83-EB98-4A32-8A83-D880FC12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8E0-2531-4404-B3E1-16ECB3F9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A087-CDE4-4815-9B1E-0A9E2B50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057-0816-4B85-BA4B-9639A2FD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4ED-9F7E-460F-8B9D-384B576E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67F-CF88-413A-B1E2-A7EE3F31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46A-10B0-40C1-8AAD-2B1662BE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533-B4E3-4914-998A-4EE8CD84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0181-489F-4358-B2A1-D5E12A74CF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6237000"/>
            <a:ext cx="453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7f7f7f"/>
                </a:solidFill>
                <a:latin typeface="Myriad Pro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611280" y="5661000"/>
            <a:ext cx="60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9933"/>
                </a:solidFill>
                <a:latin typeface="Myriad Pro"/>
              </a:rPr>
              <a:t>Free PPT 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iko</cp:lastModifiedBy>
  <dcterms:modified xsi:type="dcterms:W3CDTF">2013-03-03T12:01:25Z</dcterms:modified>
  <cp:revision>759</cp:revision>
  <dc:subject/>
  <dc:title>Diapositiva 1</dc:title>
</cp:coreProperties>
</file>